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7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F870-7569-443E-9829-D6C08CF2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BC90-6EB2-4792-9CF9-628BB370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EFDA20-1764-4D14-A7BF-4C45E668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71F17-F0FF-4CDF-B54F-15D003DB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67251-9460-42B2-AD5E-07AA581A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1AE07-4052-4D02-B63B-CB422C4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E1341-ECD3-4BAF-B341-B2898B31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497B8-B7ED-4E50-A2D0-5A32B1E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398F1-4E72-414D-B296-15496F7D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AB56A-6C73-4C8D-8295-F720FCB02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6B9A2-084E-41CD-8752-4E65145B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0EA-112F-44EE-B74C-573E9E51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5ED-C7CA-440D-ABDF-34F8ECDB0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D9A5-62F9-444B-BB6A-CB28C561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74E7-D57E-41C8-84C2-D316448D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9D82-1BE2-4F82-B26B-634CA677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8EF7-903D-446C-810E-A69B74D06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6476-0451-4AEF-ADA3-CD87317D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EC77-60E6-45EB-AD77-2CA73935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76D-255A-4C64-8D5F-F6D5478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083-6C68-492B-80B0-383E2701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4CB1-D0AA-446D-8C49-D332C95A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F6D4-5DE3-4A07-AD1D-27B44D4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4CFD-F463-44C9-9E00-BBBB30E9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101C-9A7C-489E-A3B1-0C9F51A6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1D00-1AF0-419E-B4E3-B4DC0A00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0E671-F973-4CD0-B1C0-454D711C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826A3-9320-42EE-97DC-DA20CAF6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531D-2ECD-4679-90F4-D9C000B8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264EC-BF7B-49FA-B505-190E50EF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C2FA4-895E-410F-BB4A-E290B81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159B-C270-4DEC-8EAC-DA83E45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6239-21D2-4CED-BB1E-A964FEF1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6E49-9A2F-47E3-806A-AEED4BDE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1CD8B-8D9B-49D1-BD1A-A2D109A1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6C162-938B-4F9F-95E9-854D9983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E41A0-D78F-41D8-8018-D903BA5C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8ACF8-5C08-4E50-A957-87AFBE96E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A7968-29AA-433D-B88B-B92657A26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7A1A3-7E28-424D-8E2C-3648B0E03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61B2-1661-4ABE-B566-48F291E4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1981F-FD35-4650-B315-76887DE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A7D-A407-4CE9-A71D-1D89EE9B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334CD-080D-472C-B715-7BF043B1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2612-C77B-4DDE-AC40-1DAC33FF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AFF2-F750-4E66-8E0A-DFAA445F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6989-F628-4195-BB45-13963D4F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A12C-0BF2-4963-8B73-D5F92CE9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A686-96A3-4823-A54B-C6FD9D39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1A316-5819-4418-83EE-5E157702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7D664-46CA-4CAD-9B7B-2381B030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3703-4E20-4A8A-A109-ACF7BFCB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0255F-903A-4133-B28F-5DACFD007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BCF-57A5-4C29-BDDF-DACB9B34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637B6-FABF-45AE-B2C0-0E7B365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B1660-9FEE-4A59-AE90-FE14B3B3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2D1D1-1893-4E6B-A231-B372ACCCA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B9D95-77BE-43DE-B7D6-511E07D9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76F2D-BA74-4A58-9495-8E507ED2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D61D72-E1B0-4684-96D7-53B27CD2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99F99-9C59-4A24-B19E-047BC7B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87668-C73D-4356-B629-411F435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EDE18-38D1-4D79-BE6E-3325F9F2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B1346-4E49-411C-A58F-4C50BB5B3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C08-9D1D-438E-804C-222B1278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F2C3E-E88A-4164-9216-931E1E090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314B-DF92-4629-AA59-CF90B7555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95110-0DE7-4499-83A2-457CAFDBF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3FAD2-E49D-434C-AF4C-D9B02368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89AEC-1010-4433-8E3A-7948C69C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9CFBC-9936-4C3D-90F3-4AD7EF8B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81656-3A68-4F83-BBBD-C0B82B9B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61C7-5E18-4820-97DE-7CA63528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52F73-CAD8-4695-A3F0-46769535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90FB7-D2E7-4130-8CD4-85E39310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61FE-4A94-49CA-B1C4-67027E4C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B946-6746-4436-991F-14463384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E91D5-46A7-4169-8B69-23169B8B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78980-955D-4873-8DB3-8420707C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94EDB-96CF-432A-93AB-91D04EE97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6F67-0760-4B87-B201-56E6B29C0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D2652-8F86-4DD5-8B12-039994C52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B8CB1-EDA4-4606-8A2C-463CC5CC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CD114-E5E6-4853-B6E0-1235C0FE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0B7F83-4176-414C-9C1B-20A2B1ED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BB357-13FE-476E-BC46-7126ECE4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9DC1-87B1-408E-ABB5-0B8D4CEB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8ACE3-084B-4D93-881D-69CE3755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52AE-C691-4C23-AB7E-7AD8817B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87125-FCA3-4DFD-B73C-AAA263B3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CE33E-C312-40D2-A0D4-0A3E04A0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5BBFF-3B5D-42D4-A6CA-E6922ACF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4D1F9-1528-4271-848F-4D2933D7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F3925-212D-4901-833E-BB038249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DC0ED-C8E5-4545-AB44-29A9EEC2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4322A-732C-478F-B0F0-C591311B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7B8A1-CA4E-4330-ABA3-E9C9A14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77B-191E-4B08-A649-7CF3EF56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27850-AEA8-472C-9D36-EB86503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C9F99-7844-4868-B650-6F9238ED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71467-1D8B-465C-9891-CABB023A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6F456-C0C0-4666-8356-ADDA3E8E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51732-18C3-454E-88CD-0A135E8C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843DC-313D-4FEE-AA60-6465863DF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7A82-83D0-4B74-A089-D4B4E048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5567F-793F-49C9-B823-E7337AC5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BD9E6-FAD4-48E5-81B2-F2119D3F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B4310-3092-456A-A002-44E10712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8B00-9E28-4A52-8CB8-5AAA06C1F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3D84-FF55-4582-B857-E05B7C0971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90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93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5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5A2-A4AE-499E-875B-E4E1CF90EF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3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A584-1074-475D-ACC9-80E036C4AB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EC5B-54C7-4A7D-94BE-18253574E47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0853-5F63-4C95-8BF0-F882DC8741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8A57-47E1-4252-B883-0BC0C3E59F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F516-F38B-4E6A-9D03-0971C5E4E1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65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7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68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47B0-869E-426D-BC87-C49B7CA004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2" descr=""/>
          <p:cNvPicPr/>
          <p:nvPr/>
        </p:nvPicPr>
        <p:blipFill>
          <a:blip r:embed="rId1"/>
          <a:stretch/>
        </p:blipFill>
        <p:spPr>
          <a:xfrm>
            <a:off x="542880" y="205416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TextBox 10"/>
          <p:cNvSpPr/>
          <p:nvPr/>
        </p:nvSpPr>
        <p:spPr>
          <a:xfrm>
            <a:off x="1295280" y="3581280"/>
            <a:ext cx="708660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ОФАЦИЈАЛНИ Б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авање бр. 0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ске јединице: </a:t>
            </a:r>
            <a:r>
              <a:rPr b="1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по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риз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а сл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дијагности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1447920" y="54100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53535"/>
                </a:solidFill>
                <a:latin typeface="Arial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5"/>
          <p:cNvSpPr/>
          <p:nvPr/>
        </p:nvSpPr>
        <p:spPr>
          <a:xfrm>
            <a:off x="1810440" y="838080"/>
            <a:ext cx="576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АКУЛТЕТ МЕДИЦИНСКИХ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НИВЕРЗИТЕТ У КРАГУЈЕВ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914400" y="609480"/>
            <a:ext cx="65412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И ФАКТОРИ УТИЧУ НА КООРДИНАЦИОНЕ ЦЕНТРЕ У ЦЕНТРАЛНОМ НЕРВНОМ СИСТЕМУ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И ШТЕТНИ ФАКТОРИ СУ : ЗАМОР, ЉУТЊА, НЕТРПЕЉИВОСТ, УЗНЕМИРЕНОСТ, РЕПРЕСИЈА, ПРИТИСАК, ДОСАД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 ПОРЕМЕЋАЈИ КАО ШТО СУ ВИРУСНЕ ИНФЕКЦИЈЕ, ХОРМОНСКИ ДИСБАЛАНС, МИКРОТРАУМЕ</a:t>
            </a:r>
            <a:r>
              <a:rPr b="0" lang="sr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57736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ЕТНИ ФАКТОРИ РЕМЕТЕ НОРМАЛНУ КООРДИНИСАНОСТ НЕРВНОМИШИЋНОГ СИСТЕМА И ИЗАЗАИВАЈУ ИНФЛАМАЦИЈУ ТКИВА НА ПЕРИФЕРИЈИ, ШТО ДОВОДИ ДО ОСЛОБАЂАЊА АЛГОГЕНИХ СУПСТАНЦИ И НАСТАНКА БОЛ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ГЛАВНА НЕУРОФИЗИОЛОШКА ТРАНСМИСИОНА СИСТЕМА СУ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ОТАЛАМОКОРТИКАЛН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ОРЕТИКУЛОТАЛАМУСН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ЈЕ ИЗ УНУТРАШЊЕГ И СПОЉАШЊЕГ ОКРУЖЕЊА ПРЕНОСЕ СЕ ПУТЕМ РЕЦЕПТО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ДЕЈСТВОМ ШТЕТНИХ ФАКТОРА МИШИЋНА КОНТРКЦИЈА ПОСТАЈЕ АБНОРМАЛ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КТИЛНА ВЛАКНА СУ ЕКСТРАФУЗАЛНА И ИНЕРВИСАНА СУ МОТОРНИМ НЕУРОНОМ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КРВЉУ ЈЕ НЕДОВОЉНО ТЕ ДОЛАЗИ ДО НАКУПЉАЊА КИСЕЛИХ МЕТАБОЛИТА И ОСЛОБАЂАЊА СЕРОТОНИНА КОЈИ ДЕЛУЈЕ ВАЗОКОНСТРИКТОРНО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 ПРОЦЕСИ СУ НЕФИЗИОЛОШКИ И И ДОЛАЗИ ДО ОСЛОБАЂАЊА ХИСТАМИНА, КИНИНА, СЕРОТОНИ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СУПСТАНЦЕ ДЕЛУЈУ НА СЕЗИТИВНЕ НЕРВНЕ ЗАВРШЕТКЕ ИЗАЗИВАЈУЋИ БО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ЕМИЈА МИШИЋА ДОВОДИ ДО СТРУКТУРНИХ ПРОМЕНА У САМОМ МИШИЋУ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ТУРА МИШИЋА АГОНИСТА И АНТАГОНИСТА ИЗАЗИВА РЕАКЦИЈУ ЗАПАЉЕЊА СИНОВИЈЕ  ТМЗ И ПОТЕНЦИРА НОЦИЦЕПТИВНУ АКТИВНОСТ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ЕМПОРОМАНДИБУЛАРНА ДИСФУНКЦИЈА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ЦИЦЕПТИВНИ СТИМУЛУСИ ПРЕНОСЕ СЕ ПУТЕМ ТРИ ВРСТЕ НЕРВНИХ ВЛАКА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а – СА МЕХАНОРЕЦЕПТОР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 - ВЛАКНИМА КОЈА ПРЕНОСЕ СПОРЕ БОЛНЕ СЕНЗАЦИЈ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-делта – КОЈА ПРЕНОСЕ БОЛНЕ СЕНЗАЦИЈ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 ТИ ФАКТОРИ ОБЈАШЊАВАЈУ НА КОЈИ НАЧИН ИНИЦИЈАЛНА НЕУРОМИШИЋНА ДИСФУНКЦИЈА ДОВОДИ ДО БОЛА, СКТАЋЕЊА И ГРЧА МИШИЋ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ctr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15920" y="29844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л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ручј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врдих, хиперсензитивних делова мишићног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гер 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гер 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убок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главобољ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гер 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а се може налазити у активном или латентном стању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ив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лавобољ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пацијом активне тригер 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 појачав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ацијом латентне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игер 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могу се осетити палпацијом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гер 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 се активирају претераном употребом мишића, напетошћу мишића, емоционалним стресом или чак инфекцијом горњих д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јних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утева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Rectang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457200" y="1904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ундарна хипералгезиј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јачана осетљивост при додиру главе, а неки оболели говоре како их коса боли и да је болно четкање косе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тракциј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ица тригер 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ка, па тако тригер 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ке у мишићима рамена или врата доводе до контракције мастикаторних мишић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ном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мптоми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зење или с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ћа очију те васкуларне промене ткива као б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ло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црвенило ткив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њунктива црвен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ција из нос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ључни дијагностички знак је унилатерална појава ових симптома у односу на друге болести, нпр. алергијски ринитис</a:t>
            </a:r>
            <a:r>
              <a:rPr b="1" lang="hr-HR" sz="2400" spc="-1" strike="noStrike">
                <a:solidFill>
                  <a:srgbClr val="ffff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4920" y="274320"/>
            <a:ext cx="3505320" cy="4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Тригер т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876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. MASS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игер т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ке 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површинског слоја 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ишића -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очн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мандибуларн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и максиларн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зуб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лице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и лиц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убоки 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овог мишића 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бол 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ух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и подручј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темпоромандибуларног зглоба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з дубоке тригер т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ке масетера може настати тинит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. TEMPO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она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флектовања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бол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аксиларн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зуб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и горњи д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л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бобољ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и главобољ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657600" cy="27957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"/>
          <p:cNvPicPr/>
          <p:nvPr/>
        </p:nvPicPr>
        <p:blipFill>
          <a:blip r:embed="rId2"/>
          <a:stretch/>
        </p:blipFill>
        <p:spPr>
          <a:xfrm>
            <a:off x="5334120" y="3809880"/>
            <a:ext cx="3352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0384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ТРИГЕР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496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. PTERYGOUDEUS ME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л у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њем 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елу уста и грла као и у подручју ТМЗ и инфра-аурикуларном подруч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. PTERYGOIDEUS LATER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игер т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ке се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флектују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 подручје 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мпоромандибуларног зглоба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ол у мишићу 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јач</a:t>
            </a:r>
            <a:r>
              <a:rPr b="0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н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максималном интеркуспидацијом (растезање мишића) и протрузијом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илице</a:t>
            </a:r>
            <a:r>
              <a:rPr b="0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спрам резистенције (контракција мишић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4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5" descr=""/>
          <p:cNvPicPr/>
          <p:nvPr/>
        </p:nvPicPr>
        <p:blipFill>
          <a:blip r:embed="rId2"/>
          <a:stretch/>
        </p:blipFill>
        <p:spPr>
          <a:xfrm>
            <a:off x="5410080" y="3886200"/>
            <a:ext cx="2819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743200" y="380520"/>
            <a:ext cx="3733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ИГЕР ТА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7631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. STERNOCLEIDOMASTOID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ернална грана </a:t>
            </a:r>
            <a:r>
              <a:rPr b="0" lang="sr-C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шири бол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на цело подручје лица и главе, стога  клиничке манифестације могу бити разн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врсне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убљи клавикуларни д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овог мишића 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води до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бол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у ухо, иза уха и у фронтални д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 гла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ол уха,темпоромандибуларн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</a:t>
            </a:r>
            <a:r>
              <a:rPr b="0" lang="hr-HR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бол и фронтална главобоља су учестале сметње. Овај мишић често узрокује тзв. главобољу тензијског типа</a:t>
            </a:r>
            <a:r>
              <a:rPr b="0" lang="hr-HR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1447920" y="3657600"/>
            <a:ext cx="64767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520" y="401760"/>
            <a:ext cx="396216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РИГЕР ТАЧ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51920" y="19051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. TRAPES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еферентне зоне за тригер т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а</a:t>
            </a:r>
            <a:r>
              <a:rPr b="1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ке горњег дела трапезијуса су уздуж постеролатералног дела врата, иза уха,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гла</a:t>
            </a:r>
            <a:r>
              <a:rPr b="1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мандибуле и</a:t>
            </a:r>
            <a:r>
              <a:rPr b="1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лепоочниц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Г</a:t>
            </a:r>
            <a:r>
              <a:rPr b="1" lang="hr-HR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авни узрок главобоље тензијског типа</a:t>
            </a:r>
            <a:r>
              <a:rPr b="1" lang="hr-H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r>
              <a:rPr b="0" lang="hr-HR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"/>
          <p:cNvPicPr/>
          <p:nvPr/>
        </p:nvPicPr>
        <p:blipFill>
          <a:blip r:embed="rId1"/>
          <a:stretch/>
        </p:blipFill>
        <p:spPr>
          <a:xfrm>
            <a:off x="4419720" y="1752480"/>
            <a:ext cx="44956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304920" y="685800"/>
            <a:ext cx="8534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ФАСЦИЈАЛНИ БО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физиолошки аспекти орофацијалног бола, Мишићно фасцијални болни синдроми (89-9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натологија, Орофацијална мускул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ЉУЧИТИ ОРГАНСКА ОБОЉЕЊ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МНЕСТИЧКИ ПОДАЦ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ПАЦИЈА – ТРИГЕР ТАЧ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ОРАЛНИ ПРЕГЛЕД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ПАЦИЈЕНТА - ПАТЊА, БЕЗВОЉНОСТ, ЗАБРИНУТОС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ПРИМЕНА ЛОКАЛНОГ АНЕСТЕТИК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291960" y="268200"/>
            <a:ext cx="84013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Фибромиалг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Тензиона главобољ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иозити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Хипотиреоидиза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клеродерм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Темпорални артерити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Траума / инфекц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НЕУРОМУСКУЛАРНИ ПОРЕМЕЋАЈ БЕЗ УОЧЉИВИХ ЕЛЕКТРОМИОГРАФСКИХ ПРОМЕН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АДА ВЕЛИКОЈ ПОРОДИЦИ ХРОНИЧНИХ СИНДРОМА КОЈИ СУ ПОСЛЕДИЦА ЗАМОР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Р ЈЕ ПОСЛЕДИЦА ИСЦРПЉЕНОСТИ АДРЕНЕРГИЧНИХ СУПСТАНЦИ УСЛЕД ПРОДУЖЕНЕ СТИМУЛАЦИЈЕ ЗАДЊЕГ ДЕЛА ХИПОТАЛАМУС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ЖЕНА СТИМУЛАЦИЈА ЈЕ РЕЗУЛТАТ ДУГОТРАЈНОГ СТРЕСА, ИНФЕКЦИЈЕ ИЛИ ИМУНОЛОШКОГ ПОРЕМЕЋА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 ФИБРОМИАЛГИЈЕ-МЕХАНИЧКИ НЕУРОМУСКУЛАРНИ КОНЦЕП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 СТРЕС МИШИЋА ВОДИ КА НЕУРОМУСКУЛАРНОЈ ДИСФУНКЦИЈИ КОЈА ИЗАЗИВА ХИСТОЛОШКЕ ЛЕЗИЈЕ СКЕЛЕТНИХ МИШИЋ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ФУНКЦИЈА ЈЕ ПОСЛЕДИЦА НЕОДГОВАРАЈУЋЕ КОНТРАКЦИОНЕ ФУНКЦИЈЕ МИШИЋНОГ ВРЕТЕН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НЗОРНЕ ИНФОРМАЦИЈЕ ПРЕНОСЕ СЕ А-алфа ВЛАКНИМА ДО КИЧМЕНЕ МОЖДИН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ИЧМЕНЕ МОЖДИНЕ АЛФА-МОТОРНА ВЛАКНА ОДРЕЂУЈУ АКТИВНОСТ МИШИЋА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МА-МОТОРНА ВЛАКНА РЕГУЛИШУ ОДГОВАРАЈУЋИ ТОНУ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НО ВРЕТЕНО ЈЕ ДЕЗОРГАНИЗОВАНО ПОД УТИЦАЈЕМ “ОШТЕЋУЈУЋИХ ФАКТОРА”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068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физички приступ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кална терапиј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уелна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ажа, ТЕНС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УЗАЛНИ СПЛИНТ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пунктур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терапиј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САИДс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клобензаприн, диазепам, трициклични антидепресиви, локални анестетици, ботокс 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шка</a:t>
            </a:r>
            <a:r>
              <a:rPr b="0" i="1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укација и саветовањ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хавиорална терапија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терапије је да се умири бол и поново успостави физиолошка покретљивост доње вилиц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је интегрални део оралне рехабилитациј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а терапија бола је важна због могуће сензитзације централних неуро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цијенти слабо реагују на терапију након што се успостави централна сензитзациј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8" name="Title 2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ПЕРИФЕРНА СЕНЗИТИЗАЦИЈА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гене супстанце доводе до снижавања прага надражаја. Бол се додатно појачава након неурогене инфламације и сензитизације ноцицептора неуропептидима (супстанц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RP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урокинин А и вазоактивни интестинални пептид) који се ослобађају из ноцицпетора.  Ови неуропетиди додатно потенцирају сензитизацију ноцицептора и појачавају запаљењску реакцију. Сензитизација ноцицептора представља периферну неуробиолошку основу за настанак преосетљивости мишића (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ОДИНИЈ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хипералгезиј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0" name="Title 2" descr=""/>
          <p:cNvPicPr/>
          <p:nvPr/>
        </p:nvPicPr>
        <p:blipFill>
          <a:blip r:embed="rId1"/>
          <a:stretch/>
        </p:blipFill>
        <p:spPr>
          <a:xfrm>
            <a:off x="298440" y="225360"/>
            <a:ext cx="8242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Централна сензитизација услед хроницитета процеса резултује дуготрајнијем болном стању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огу постојати знаци секундарне хипералгезије и алодин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У овом случају пацијенти слабије реагују на аналгетску терапиј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1"/>
          <p:cNvSpPr/>
          <p:nvPr/>
        </p:nvSpPr>
        <p:spPr>
          <a:xfrm>
            <a:off x="76320" y="76320"/>
            <a:ext cx="9067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недеља пред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ако су 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в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сани скелет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шић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ако је регулисан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ус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келетн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е функције 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шићно врете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 тетив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рга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бјаснити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ханизам мишићн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име се карактеришу 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нични болни синдроми скелетних мишић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ји су 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теријуми дијагностике миофасцијалних болних синдром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е су карактристике 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бромиалгиј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ји етиолошки фактори доводе до 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стан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офасцијалног бо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Навести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мпто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офасцијалног 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ефинисати појам 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игер тачк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гер тачке (масетер, темпорал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гер тачке (птеригоидни мишић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гер тачке (СКМ, трапезоудни мишић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АЦИОНАЛНО УДРУЖЕЊЕ ЗА ПРОУЧАВАЊЕ БОЛА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ФИКАЦИЈА ХРОНИЧНИХ БОЛНИХ СИНДРОМА СКЕЛЕТНИХ МИШИЋ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А ФИБРОМИАЛГИЈА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ОФАСЦИЈАЛНИ БОЛНИ СИНДРО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БС)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ОРОМАНДИБУЛАРНИ БОЛ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914040"/>
            <a:ext cx="822960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мастикаторних мишића је најчешћи бол неодонтогеног порекла у орофацијалној регији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С уз бол ТМЗ је функционално и симптоматски повезан, а ова два ентитета се називај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оромандибуларна дисфункц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мишића је слабо локализован, и пацијанти га описују као туп притисак или чупање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је обично благого до умереног интензитета, а појачава се при функцији мишића (нпр. жвакање) или при палпацији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рети вилице су често ограничени а може постојати неправилности у оклузији зуба или протетских надокнад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може да ирадира ка зубима, ТМЗ, уху или оку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25360" y="-648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НУС И САР. ПРЕДЛОЖИЛИ СТАНДАРДНЕ ДИЈАГНОСТИЧКЕ КРИТЕРИЈУМЕ У ДИЈАГНОСТИЦИ МИОФАСЦИЈАЛНОГ БОЛНОГ СИНДРОМ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И КРИТЕРИЈУ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КРИТЕРИЈУ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И КРИТЕРИЈУМ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088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НИ КРИТЕРИЈУМ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 – НАЈМАЊЕ ТРИ МЕСЕЦ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 ТРАУМАТСКИХ ОШТЕЋЕЊА, РЕУМАТСКИХ БОЛЕСТИ, ЕНДОКРИНИХ ПОРЕМЕЋАЈ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КРИТЕРИЈУМ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ТРИ ИЛИ ВИШЕ ОСЕТЉИВИХ ТАЧАК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И КРИТЕРИЈУМ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ЉИВОСТ СИМПТОМА У ОДНОСУ НА ВРЕМЕНСКЕ ПРИЛИК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ЊЉИВОСТ СИМПТОМА У ОДНОСУ НА ФИЗИЧКЕ АКТИВНОСТ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 СА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ОНИЧНА ГЛАВОБОЉ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ЕВНЕ ИРИТАЦИЈЕ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ЈЕКТИВНА НАДУТОС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609480" indent="-6094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СТАВЉАЊЕ ДИЈАГНОЗЕ НЕОПХОДНО ЈЕ ДА ПОСТОЈЕ НАЈМАЊЕ ТРИ СПОРЕДНА КРИТЕРИЈУМ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450720" y="208080"/>
            <a:ext cx="82425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Фактори ризика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испонирајући фактори (структурални, неуроендокрини, генетски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ицирајући (микротраума, напор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ни (психолошки, психосоцијални, парафункције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85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помињан фактор који доводи до мишићног бол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ола долази услед активације ноцицептора услед патолошког напрезања мишић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траума, локална исхемија и слаба прокрвљеност уз функционални поремећај мишића, присуство тригер тачака и бол мишића након функције служе као патофизиолошки модел обољења. Након замора мишића изазваног парафункцијални покретом и положајем, долазо до ослобађања алгогених супстакци из ткивних ћелија и нервних влакана (глутамат, брадикинин, хистамин, простагландин, серотонин, калијум, АТП, супстанца П, протони) који доводе до сензитизације ноцицептора и моторних влакана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цитаторне аминокиселине, као глутамат, могу довести до појаве бола без знакова инфламације, услед активације и сензитизације периферних неурон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уксизам није увек удружен са БМС. Када је то случај бо је најизраженији у јутарњим часовима. Веза парафункција и БМС није најјсанија. Чак је и ЕМГ активност мишића приликом сна мања код оболелих код БМ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лузалне сметње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оклузији ( губитак зуба, лоше протетске надокнаде, ортодонтске терапија, оклузалне сметње) активирају патолошке кртење и положаје доње вилице који могу довести до мишићног дибаланса и бол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1T12:07:32Z</dcterms:created>
  <dc:creator>muti</dc:creator>
  <dc:description/>
  <dc:language>en-US</dc:language>
  <cp:lastModifiedBy>Miki</cp:lastModifiedBy>
  <dcterms:modified xsi:type="dcterms:W3CDTF">2015-06-15T08:45:1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